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424-06FB-4283-AA91-A2A4DB21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8A7-40BA-4BA8-A29B-7EC05396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CE7-6E69-49D8-85DC-8AAA7A84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6C8-28AF-40A6-A8F7-ABB01848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2E09-600B-448D-929E-FA5B62E4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6AB1-3F0E-43A6-A50A-BA8AE694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225C-0B99-4353-8C99-0827CE14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5F9C-2AB4-4BDC-9F5D-3450CAE2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0BFC-B1F9-463B-A06E-B11A78A7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650A-8717-4F56-96C0-ECD6A44A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D100-E05D-40D0-AAC7-266A89DE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2C2-F80F-4B60-9B4C-34A6A45B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3DE6-3472-4450-9E24-780E264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5DCE-B251-4D85-AC1F-AD9DF639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802A-60EA-4AF4-879C-19DEBBF0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091D-8720-4909-8C43-1C04D47D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E752-E745-4B1B-A32C-EEE786FC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D83-67BB-4CD4-85CD-F0BA6F5E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471-7312-432B-970E-AE4D921E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947-E28B-4EFD-BD6F-9156CB7C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81B-1E50-41FD-B9E1-FEF7B69D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FAA-8B86-446B-88B4-B8768B52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80D-630F-477C-9B74-F69FB04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E09-B80A-436F-9B80-AD2721C3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15A2-8DBD-4517-AF82-AAD6B7FDCE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631A-57B2-4D6C-8B24-9D021BE137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Leopoldo Alas (Clarí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spañol 1852-19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El 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Observa el uso de regionalismos y palabras coloquiales.  ¿Qué efecto busca el aut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¿De qué modo sería diferente la situación de los niños si vivieran el “la ciudad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¿Cuál es el trasfondo histórico del cuento que obliga a Pinín a abandonar el puebl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El 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n tu opinión, ¿qué le interesa más a Clarín, la descripción del grupo social o la de los personajes?  ¿Cómo es, específicamente, la sociedad retratada?  ¿Es su influencia fuerte o puede ser superad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¿Qué elementos realistas o naturalistas encuentras en este relat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La compar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1440" y="3610440"/>
            <a:ext cx="7755480" cy="1771920"/>
            <a:chOff x="541440" y="3610440"/>
            <a:chExt cx="7755480" cy="1771920"/>
          </a:xfrm>
        </p:grpSpPr>
        <p:sp>
          <p:nvSpPr>
            <p:cNvPr id="123" name="_s17425"/>
            <p:cNvSpPr/>
            <p:nvPr/>
          </p:nvSpPr>
          <p:spPr>
            <a:xfrm>
              <a:off x="4186800" y="3610440"/>
              <a:ext cx="1957320" cy="1771920"/>
            </a:xfrm>
            <a:prstGeom prst="ellipse">
              <a:avLst/>
            </a:prstGeom>
            <a:solidFill>
              <a:srgbClr val="ffcf01">
                <a:alpha val="50000"/>
              </a:srgbClr>
            </a:solidFill>
            <a:ln w="468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7426"/>
            <p:cNvSpPr/>
            <p:nvPr/>
          </p:nvSpPr>
          <p:spPr>
            <a:xfrm>
              <a:off x="6339600" y="4275720"/>
              <a:ext cx="19573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2300" spc="-1" strike="noStrike">
                  <a:solidFill>
                    <a:srgbClr val="000000"/>
                  </a:solidFill>
                  <a:latin typeface="Tahoma"/>
                </a:rPr>
                <a:t>Emilia Pardo Bazá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7427"/>
            <p:cNvSpPr/>
            <p:nvPr/>
          </p:nvSpPr>
          <p:spPr>
            <a:xfrm>
              <a:off x="2694240" y="3610440"/>
              <a:ext cx="1957680" cy="17719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7428"/>
            <p:cNvSpPr/>
            <p:nvPr/>
          </p:nvSpPr>
          <p:spPr>
            <a:xfrm>
              <a:off x="541440" y="4275720"/>
              <a:ext cx="19576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2300" spc="-1" strike="noStrike">
                  <a:solidFill>
                    <a:srgbClr val="000000"/>
                  </a:solidFill>
                  <a:latin typeface="Tahoma"/>
                </a:rPr>
                <a:t>Leopoldo Alas “Clarín”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Datos biográf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Vivió gran parte de su vida en Oviedo, Astur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Vivió un tiempo en Madrid pero le desagradó de tal forma que Madrid aparece en sus cuentos como una fuerza amenazad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Sus ideas y escritos tuvieron gran repercusión en el país ente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Datos biográf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ra excéntrico, sensible y tímido como una persona pero era exactamente lo opuesto en sus escr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scribió cuentos y nov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Fue periodista y crítico literario mientras era profesor en la Facultad de Derecho en Ove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Su fama le llegó después de mor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Datos biográf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Trató de revelar todos los problemas de la socie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Fueron muy conocidos y discutidos por toda de Españ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Defendía a los escritores liberales y criticaba a los conserv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Murió a los 49 añ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La narr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Fue realista y natural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Descripciones sumamente detall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Su influencia principal era el francés Émile Zo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xperimentó con el estilo </a:t>
            </a:r>
            <a:r>
              <a:rPr b="0" i="1" lang="es-DO" sz="3200" spc="-1" strike="noStrike">
                <a:solidFill>
                  <a:srgbClr val="000000"/>
                </a:solidFill>
                <a:latin typeface="Tahoma"/>
              </a:rPr>
              <a:t>indirecto li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Utiliza un narrador omnisc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El realis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Surgió como resultado del romantic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Idealizaba el mun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nfatizaba el mundo científico y la producción económ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Una idea objetiva y material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Retrata la realidad (su propio ambiente) de forma detall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ahoma"/>
              </a:rPr>
              <a:t>Por esto se utilizan los regionalismos y tradi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El naturalis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Movimiento encabezado por Pardo Bazán y utilizado por Clarín A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nfatiza la degradación del individuo como resultado de la herencia y del amb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Te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La crítica de la corrupción y la mentira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Los problemas filosóf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Los problemas religio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l contraste entre el campo y la ciu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ahoma"/>
              </a:rPr>
              <a:t>O la ciudad y la metrópo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l papel de la imag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333399"/>
                </a:solidFill>
                <a:latin typeface="Tahoma"/>
              </a:rPr>
              <a:t>El 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Comenta las circunstancias directas e indirectas que causan la soledad de los hermanos. ¿Cómo se enfrentan a ell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000000"/>
                </a:solidFill>
                <a:latin typeface="Tahoma"/>
              </a:rPr>
              <a:t>Estudia el tema de la familia en “¡Adiós Cordera!”  Analiza las figuras del padre, la madre y Cordera en relación con los niñ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4:00:22Z</dcterms:created>
  <dc:creator>Cameron Stephen</dc:creator>
  <dc:description/>
  <dc:language>en-US</dc:language>
  <cp:lastModifiedBy>Cameron Stephen</cp:lastModifiedBy>
  <dcterms:modified xsi:type="dcterms:W3CDTF">2002-09-24T05:03:54Z</dcterms:modified>
  <cp:revision>3</cp:revision>
  <dc:subject/>
  <dc:title>Leopoldo Alas (Clarín)</dc:title>
</cp:coreProperties>
</file>